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2C8-B4F6-4E4D-BDEC-63EBDD41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5D1-CA6B-4395-8120-9247CD4F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F440-331F-404D-8BF0-9CF7CCCD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9CA7-2467-456C-9230-149AFE7A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41C-7833-4C1E-8871-690753B6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D16B-9753-495F-B204-6A5203A4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D6C-706B-49F3-B840-BBE1D139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2A62-5F41-4C60-9398-A37373C2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B9C-AE8D-47FD-8BAB-A2BC8A37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78C-0026-4497-BF0E-046C2C5A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ACC-7589-497C-8871-2C67034B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680-5150-490E-81C5-20BE618E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055D-E863-4190-B244-7687D291A52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250920" y="1515960"/>
            <a:ext cx="8642160" cy="5081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3"/>
          <a:stretch/>
        </p:blipFill>
        <p:spPr>
          <a:xfrm>
            <a:off x="1255680" y="907920"/>
            <a:ext cx="7643880" cy="1320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4"/>
          <a:stretch/>
        </p:blipFill>
        <p:spPr>
          <a:xfrm>
            <a:off x="1204920" y="3716280"/>
            <a:ext cx="769464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هم أكثر الناس فسوقاً وخروجاً عن الفضائ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4581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نسوا الإيمان بالله وذكره فعاقبهم الله بنسيانه إياهم من فضله وتوفي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989440"/>
            <a:ext cx="8642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17640"/>
            <a:ext cx="915192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2360" y="4869000"/>
            <a:ext cx="34671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576600" y="981000"/>
            <a:ext cx="53341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627760" cy="86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642160" cy="482436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43000" y="398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أمرون بالكفر والمعاص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44719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نهون عن الإيمان و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43000" y="50115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الإنفاق في 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5583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هم من لطف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ارجون من طريق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نافقين هم أكثر النا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سوقاً وخروجاً عن الفضائ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اء عضال يتغلل في النفس فيجعل المعروف منكراً والمنكر معروف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ين في كل ع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تشابه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أمر بالمنكر وإشاعة الفواحش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هي عن المعروف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عويق طرق الخير وال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مات المنافق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خل بالمال وعدم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9975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6293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نسوا الإيمان بالله وذكره فعاقبهم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نسيانه إياهم من فضله وتوفي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08000" y="63165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رجات الفسق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فر أكبر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بائر لا تصل إلى حد ال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182520" y="907920"/>
            <a:ext cx="8796240" cy="1208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09520" y="2316240"/>
          <a:ext cx="8683560" cy="1981080"/>
        </p:xfrm>
        <a:graphic>
          <a:graphicData uri="http://schemas.openxmlformats.org/drawingml/2006/table">
            <a:tbl>
              <a:tblPr/>
              <a:tblGrid>
                <a:gridCol w="4341960"/>
                <a:gridCol w="434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ؤمن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نافق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لا 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ذكرون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نسوا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2T17:08:17Z</dcterms:modified>
  <cp:revision>1867</cp:revision>
  <dc:subject/>
  <dc:title>عرض تقديمي في PowerPoint</dc:title>
</cp:coreProperties>
</file>